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9178-0F66-47F0-BD86-36C24AE3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6082-6A17-4CB0-83EE-2A7F07EE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DC02-CF97-4227-B839-ECEBBB7F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ED88-0284-4651-B8D7-FD0333273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AFE-25F8-485C-B700-13C8438C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8420-ABE5-4C49-B8F7-09AED528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0A79-C94C-4366-8A47-BA7C7182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FC84-1F0C-4B5A-AA42-20F43F0F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4773-8445-4BB1-88C9-BDD41092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B3B6-681A-47E7-B703-ED15E82B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9AC2-DBED-498C-A4B2-3571458A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BEF0-8D07-4011-A2CF-9EB6D4A2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8588-8A62-47C2-B4D8-7C90C7E61D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ds Teaching K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hift in Thinking and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lick.png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nking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the concept of Kids Teaching Kids change our current instructional practi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ds Teaching K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iagram 4" descr=""/>
          <p:cNvPicPr/>
          <p:nvPr/>
        </p:nvPicPr>
        <p:blipFill>
          <a:blip r:embed="rId1"/>
          <a:stretch/>
        </p:blipFill>
        <p:spPr>
          <a:xfrm>
            <a:off x="1139760" y="1139760"/>
            <a:ext cx="694368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u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Diagram 2" descr=""/>
          <p:cNvPicPr/>
          <p:nvPr/>
        </p:nvPicPr>
        <p:blipFill>
          <a:blip r:embed="rId1"/>
          <a:stretch/>
        </p:blipFill>
        <p:spPr>
          <a:xfrm>
            <a:off x="1139760" y="1365120"/>
            <a:ext cx="68706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iagram 2" descr=""/>
          <p:cNvPicPr/>
          <p:nvPr/>
        </p:nvPicPr>
        <p:blipFill>
          <a:blip r:embed="rId1"/>
          <a:stretch/>
        </p:blipFill>
        <p:spPr>
          <a:xfrm>
            <a:off x="596880" y="573120"/>
            <a:ext cx="784080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Ac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y in the Classro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deo Les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this all me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ft in Thin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ft in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6 0.00232 L 0.7066 -0.00879 E">
                                      <p:cBhvr>
                                        <p:cTn id="6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924 -0.00579 L -0.76424 -0.00579 E">
                                      <p:cBhvr>
                                        <p:cTn id="8" dur="3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itls\Local Settings\Temporary Internet Files\Content.IE5\K96ZG5AN\MCj04242340000[1].wmf"/>
          <p:cNvPicPr/>
          <p:nvPr/>
        </p:nvPicPr>
        <p:blipFill>
          <a:blip r:embed="rId1"/>
          <a:stretch/>
        </p:blipFill>
        <p:spPr>
          <a:xfrm>
            <a:off x="3809880" y="1143000"/>
            <a:ext cx="1635120" cy="1577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 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w are you going to initiate Kids teaching Kids in your classro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5:36:11Z</dcterms:created>
  <dc:creator>itls</dc:creator>
  <dc:description/>
  <dc:language>en-US</dc:language>
  <cp:lastModifiedBy>itls</cp:lastModifiedBy>
  <dcterms:modified xsi:type="dcterms:W3CDTF">2009-07-09T16:55:15Z</dcterms:modified>
  <cp:revision>1</cp:revision>
  <dc:subject/>
  <dc:title>Kids Teaching Kids</dc:title>
</cp:coreProperties>
</file>